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66B-5D6E-4DA2-88A6-ED0CCC6D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9C6-04B0-469B-9725-48FC1F5F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40D-65D4-4058-A727-259E5764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09B-7BDD-4AA9-AC4C-E3547094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181-D3C9-4213-9E0E-F071B651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69B-A825-422A-BDB9-DA3E50B8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7A4-42A7-4995-9C6B-6662D83D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486-99C5-4DA6-8A9F-D698C368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4136-FCE6-4500-9840-F28106A4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281-FD39-4EF4-ADAA-AB6D2C39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407-1825-429E-8962-A06795BC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251-D088-4B59-BD81-9B409775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314D-567C-43EE-96FC-475C5F7A845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8229600" cy="115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0" y="2160720"/>
            <a:ext cx="89139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1135080" y="836640"/>
            <a:ext cx="7758000" cy="417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3203640" y="2162160"/>
            <a:ext cx="53719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3916440" y="3602160"/>
            <a:ext cx="46479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6"/>
          <a:stretch/>
        </p:blipFill>
        <p:spPr>
          <a:xfrm>
            <a:off x="4067280" y="5013360"/>
            <a:ext cx="4635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97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530064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 على طاع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ن معصية الله   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لى الب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1617840" y="836640"/>
            <a:ext cx="7275240" cy="58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4"/>
          <a:stretch/>
        </p:blipFill>
        <p:spPr>
          <a:xfrm>
            <a:off x="1719360" y="2997360"/>
            <a:ext cx="7173720" cy="57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5"/>
          <a:stretch/>
        </p:blipFill>
        <p:spPr>
          <a:xfrm>
            <a:off x="5702400" y="4653000"/>
            <a:ext cx="3200400" cy="52056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324000" y="364644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لا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زك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324000" y="148428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قبيحاً لحا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45"/>
          <a:stretch/>
        </p:blipFill>
        <p:spPr>
          <a:xfrm>
            <a:off x="476280" y="2421000"/>
            <a:ext cx="81914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19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5013360"/>
            <a:ext cx="33526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58680"/>
            <a:ext cx="892800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62080" y="1989000"/>
            <a:ext cx="8631000" cy="288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76032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287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لبس ف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057480" y="97488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ل السعداء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                            فيه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كار على من يتوهم المماثلة بين من يعلم ما أنزله الله من الحق وبين من لا ي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اء الوصف بالأعم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بيحاً لحا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هو العدل فلا يستوي عن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آمن بالقرآن ومن كفر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ؤمن حيّ القلب يبصر بنور قلبه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علم و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 ميت القلب أعمى البصيرة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ولا 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تعاظ بالمواعظ يحصل لكل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ي عقل راجح سلي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حرص على الاتصاف بصفات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مال السعداء لا بد أن تكون خالص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جه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بدي لا يزول ولا يحو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5410080"/>
            <a:ext cx="86659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شارة إ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يجمع بين السعداء وبين من صلح من الآباء والأهلين والأبناء لتقر أعينهم بهم فترفع درجة الأدنى إلى درجة الأعلى امتناناً م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5" descr=""/>
          <p:cNvPicPr/>
          <p:nvPr/>
        </p:nvPicPr>
        <p:blipFill>
          <a:blip r:embed="rId1"/>
          <a:stretch/>
        </p:blipFill>
        <p:spPr>
          <a:xfrm>
            <a:off x="6227640" y="1413000"/>
            <a:ext cx="1663920" cy="55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/>
          <p:cNvPicPr/>
          <p:nvPr/>
        </p:nvPicPr>
        <p:blipFill>
          <a:blip r:embed="rId2"/>
          <a:stretch/>
        </p:blipFill>
        <p:spPr>
          <a:xfrm>
            <a:off x="2835360" y="5410080"/>
            <a:ext cx="5024520" cy="50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ها تدخل على المؤمنين في الجنة للسلام والتهنئة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1916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تض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ح ما أعطى الله السعداء من الجنة وذلك للترغيب والتشو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5500800" y="1870200"/>
            <a:ext cx="2311200" cy="52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1522440"/>
            <a:ext cx="864072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وفون ب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قضون الميث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ل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شون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افون سوء الحسا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وا ابتغاء وجه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قاموا الصل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فقوا مما رزقهم الله سراً وعلان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درؤون بالحسنة السيئ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4140360" y="836640"/>
            <a:ext cx="477504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9:59:14Z</dcterms:modified>
  <cp:revision>2077</cp:revision>
  <dc:subject/>
  <dc:title>عرض تقديمي في PowerPoint</dc:title>
</cp:coreProperties>
</file>